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AD4C-D870-45ED-8C4B-39B7A1FBE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54AF-13E0-4803-9A19-66193230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1A97-A48A-4EE6-A0AE-6AD106455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024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9176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872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024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9176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AECA-6671-474E-8720-E85DFE1A1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6252-F0D7-4DD2-85FF-34FB131BF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D071-3D21-42A4-BDFB-48051F4A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BC92-1F7E-4D1C-A9F1-D330A9E9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333F-123E-4F7A-9EDE-EC4933EF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B604A-85F5-4B0B-BEA8-B4C30B94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8720" y="75960"/>
            <a:ext cx="74851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5F53-C4E3-4B35-9690-93B7185B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87506-9C31-4289-A7BD-76338611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7699-3D9B-4CD0-A7AB-D8889A3B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1726-A202-494E-AB20-1751CE1D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3659-3C38-4B85-B8AA-DE85B806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2EF9-9A06-492E-841F-E33DD628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6919-B981-49F9-8FDC-308E8496F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024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9176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872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024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9176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3E23-095A-4784-8FBA-869E85CE9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3331-499F-41CB-BEE6-45D6CEAC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28720" y="75960"/>
            <a:ext cx="74851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6024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9176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2872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6024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9176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77C04-D953-4522-A0DF-DE6D010F0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957AE-836F-4688-BEC9-D6EA517B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2CF81-6459-4B15-B79B-DD07989E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D4E6-1A9E-4592-8208-7C5D5D30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1909A-099A-4CDF-9D25-D8141574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323A3-1964-4D62-BB01-1B2C28B0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828720" y="75960"/>
            <a:ext cx="74851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9C444-49E4-4372-8C3D-A23B1205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308E0-7254-4E08-BE76-F650659E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B3CD2-1CEE-40D0-A005-ED1D2A4D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FD7AF-1A35-454F-9D65-BAE2ABA1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68302-0A34-4E6D-A8E6-534860A2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0F142-D591-48C3-8E99-47E775F47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36024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89176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82872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36024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589176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B4720-1DB6-4A88-BB45-0CED47462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90762-D99F-4426-B33B-A870262D1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EFB4-77C0-40E6-9C0A-08DC8C99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70872-4208-42E8-8774-2215BE41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659D0-6958-4062-9252-F7F2DE9D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36FF1-80E7-4B47-BEA6-35F61081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AE95B-A352-4E7C-B373-598D1333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828720" y="75960"/>
            <a:ext cx="74851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7A821-80D9-4D0F-B039-80E64745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EBCF7-8569-4DF2-AB1D-BBB36CC1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C14A8-D41C-4728-ADA6-3E3B15C4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19F66-CF43-483A-9164-BB86EEB2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9AB6F-9043-4786-AB96-51C2AD14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4C958-02E7-4716-93E7-03C805A8B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8720" y="75960"/>
            <a:ext cx="74851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F5EA-A0F7-43A9-BC36-735EB562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36024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89176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82872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36024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589176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88D38-168F-48C0-826F-CBB508A44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63723-B3AF-4EF9-A33B-12A703A4D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FE93E-EBC5-4DF5-B3F9-3D1B4FB3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2566F-92A8-497D-83C8-1FF3FA31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4427A-6B74-40C2-8065-B36C3481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9ABCE-EFC4-4C1B-8491-CE741BC1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828720" y="75960"/>
            <a:ext cx="74851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3BD21-928E-4CFD-9A65-C4B98984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8FEF2-D0A4-48F8-8342-C062F55D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4FCE4-1503-4CDF-9AC4-9BCC2C8E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C2298-F15A-415C-B1C2-DA20ABB1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95FE-30E1-47CD-A19D-07D592F6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50707-BE81-475C-BB24-F7221B26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5483D-B6FF-4CF9-9139-FBCB63FD5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36024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89176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82872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36024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89176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B2B3E-F45A-41B3-AC80-67FDD2C4B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461C-79B5-49B4-8147-4CC3C139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4908-1B1F-44AE-8F27-D24357C8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4843"/>
                </a:solidFill>
                <a:latin typeface="Plantagenet Cherokee"/>
              </a:rPr>
              <a:t>Click to edit the title text format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Click to edit the outline text format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1" marL="6858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con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Thir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our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if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ix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ven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2872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d8f88"/>
                </a:solidFill>
                <a:latin typeface="Euphem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0320" y="6356520"/>
            <a:ext cx="474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4224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F1D9-991D-4183-878A-290858C44D00}" type="slidenum">
              <a:rPr b="0" lang="ru-RU" sz="1200" spc="-1" strike="noStrike">
                <a:solidFill>
                  <a:srgbClr val="9d8f88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Группа 14"/>
          <p:cNvGrpSpPr/>
          <p:nvPr/>
        </p:nvGrpSpPr>
        <p:grpSpPr>
          <a:xfrm>
            <a:off x="826920" y="1219320"/>
            <a:ext cx="7490160" cy="83880"/>
            <a:chOff x="826920" y="1219320"/>
            <a:chExt cx="7490160" cy="83880"/>
          </a:xfrm>
        </p:grpSpPr>
        <p:sp>
          <p:nvSpPr>
            <p:cNvPr id="6" name="Прямая соединительная линия 12"/>
            <p:cNvSpPr/>
            <p:nvPr/>
          </p:nvSpPr>
          <p:spPr>
            <a:xfrm flipH="1">
              <a:off x="826920" y="1219320"/>
              <a:ext cx="7490160" cy="0"/>
            </a:xfrm>
            <a:prstGeom prst="line">
              <a:avLst/>
            </a:prstGeom>
            <a:ln w="3816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  <p:sp>
          <p:nvSpPr>
            <p:cNvPr id="7" name="Прямая соединительная линия 13"/>
            <p:cNvSpPr/>
            <p:nvPr/>
          </p:nvSpPr>
          <p:spPr>
            <a:xfrm flipH="1">
              <a:off x="826920" y="1303200"/>
              <a:ext cx="7490160" cy="0"/>
            </a:xfrm>
            <a:prstGeom prst="line">
              <a:avLst/>
            </a:prstGeom>
            <a:ln w="1260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778360"/>
            <a:ext cx="9144000" cy="1079640"/>
          </a:xfrm>
          <a:prstGeom prst="rect">
            <a:avLst/>
          </a:prstGeom>
          <a:solidFill>
            <a:srgbClr val="5148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5148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pic>
        <p:nvPicPr>
          <p:cNvPr id="46" name="Рисунок 10" descr=""/>
          <p:cNvPicPr/>
          <p:nvPr/>
        </p:nvPicPr>
        <p:blipFill>
          <a:blip r:embed="rId2"/>
          <a:stretch/>
        </p:blipFill>
        <p:spPr>
          <a:xfrm>
            <a:off x="993600" y="0"/>
            <a:ext cx="1311480" cy="2292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4843"/>
                </a:solidFill>
                <a:latin typeface="Plantagenet Cherokee"/>
              </a:rPr>
              <a:t>Click to edit the title text format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Click to edit the outline text format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1" marL="6858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con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Thir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our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if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ix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ven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872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d8f88"/>
                </a:solidFill>
                <a:latin typeface="Euphem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200320" y="6356520"/>
            <a:ext cx="474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94224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F73E-42D3-4549-BA4D-D2E18027D579}" type="slidenum">
              <a:rPr b="0" lang="ru-RU" sz="1200" spc="-1" strike="noStrike">
                <a:solidFill>
                  <a:srgbClr val="9d8f88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Группа 12"/>
          <p:cNvGrpSpPr/>
          <p:nvPr/>
        </p:nvGrpSpPr>
        <p:grpSpPr>
          <a:xfrm>
            <a:off x="0" y="5645160"/>
            <a:ext cx="9144000" cy="63360"/>
            <a:chOff x="0" y="5645160"/>
            <a:chExt cx="9144000" cy="63360"/>
          </a:xfrm>
        </p:grpSpPr>
        <p:sp>
          <p:nvSpPr>
            <p:cNvPr id="89" name="Прямая соединительная линия 10"/>
            <p:cNvSpPr/>
            <p:nvPr/>
          </p:nvSpPr>
          <p:spPr>
            <a:xfrm flipH="1">
              <a:off x="0" y="5645160"/>
              <a:ext cx="9144000" cy="0"/>
            </a:xfrm>
            <a:prstGeom prst="line">
              <a:avLst/>
            </a:prstGeom>
            <a:ln w="3816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  <p:sp>
          <p:nvSpPr>
            <p:cNvPr id="90" name="Прямая соединительная линия 11"/>
            <p:cNvSpPr/>
            <p:nvPr/>
          </p:nvSpPr>
          <p:spPr>
            <a:xfrm flipH="1">
              <a:off x="0" y="5708520"/>
              <a:ext cx="9144000" cy="0"/>
            </a:xfrm>
            <a:prstGeom prst="line">
              <a:avLst/>
            </a:prstGeom>
            <a:ln w="1260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</p:grpSp>
      <p:grpSp>
        <p:nvGrpSpPr>
          <p:cNvPr id="91" name="Группа 13"/>
          <p:cNvGrpSpPr/>
          <p:nvPr/>
        </p:nvGrpSpPr>
        <p:grpSpPr>
          <a:xfrm>
            <a:off x="0" y="1143000"/>
            <a:ext cx="9144000" cy="63360"/>
            <a:chOff x="0" y="1143000"/>
            <a:chExt cx="9144000" cy="63360"/>
          </a:xfrm>
        </p:grpSpPr>
        <p:sp>
          <p:nvSpPr>
            <p:cNvPr id="92" name="Прямая соединительная линия 15"/>
            <p:cNvSpPr/>
            <p:nvPr/>
          </p:nvSpPr>
          <p:spPr>
            <a:xfrm>
              <a:off x="0" y="1206360"/>
              <a:ext cx="9144000" cy="0"/>
            </a:xfrm>
            <a:prstGeom prst="line">
              <a:avLst/>
            </a:prstGeom>
            <a:ln w="3816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  <p:sp>
          <p:nvSpPr>
            <p:cNvPr id="93" name="Прямая соединительная линия 16"/>
            <p:cNvSpPr/>
            <p:nvPr/>
          </p:nvSpPr>
          <p:spPr>
            <a:xfrm>
              <a:off x="0" y="1143000"/>
              <a:ext cx="9144000" cy="0"/>
            </a:xfrm>
            <a:prstGeom prst="line">
              <a:avLst/>
            </a:prstGeom>
            <a:ln w="1260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</p:grpSp>
      <p:sp>
        <p:nvSpPr>
          <p:cNvPr id="94" name="Прямоугольник 17"/>
          <p:cNvSpPr/>
          <p:nvPr/>
        </p:nvSpPr>
        <p:spPr>
          <a:xfrm>
            <a:off x="0" y="5778360"/>
            <a:ext cx="9144000" cy="1079640"/>
          </a:xfrm>
          <a:prstGeom prst="rect">
            <a:avLst/>
          </a:prstGeom>
          <a:solidFill>
            <a:srgbClr val="5148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95" name="Прямоугольник 18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5148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pic>
        <p:nvPicPr>
          <p:cNvPr id="96" name="Рисунок 9" descr=""/>
          <p:cNvPicPr/>
          <p:nvPr/>
        </p:nvPicPr>
        <p:blipFill>
          <a:blip r:embed="rId2"/>
          <a:stretch/>
        </p:blipFill>
        <p:spPr>
          <a:xfrm>
            <a:off x="993600" y="0"/>
            <a:ext cx="1311480" cy="2292480"/>
          </a:xfrm>
          <a:prstGeom prst="rect">
            <a:avLst/>
          </a:prstGeom>
          <a:ln w="0">
            <a:noFill/>
          </a:ln>
        </p:spPr>
      </p:pic>
      <p:sp>
        <p:nvSpPr>
          <p:cNvPr id="97" name="Пояснительный текст"/>
          <p:cNvSpPr/>
          <p:nvPr/>
        </p:nvSpPr>
        <p:spPr>
          <a:xfrm>
            <a:off x="9258480" y="0"/>
            <a:ext cx="971280" cy="6858000"/>
          </a:xfrm>
          <a:custGeom>
            <a:avLst/>
            <a:gdLst>
              <a:gd name="textAreaLeft" fmla="*/ 27360 w 971280"/>
              <a:gd name="textAreaRight" fmla="*/ 943920 w 971280"/>
              <a:gd name="textAreaTop" fmla="*/ 27360 h 6858000"/>
              <a:gd name="textAreaBottom" fmla="*/ 6830640 h 6858000"/>
            </a:gdLst>
            <a:ahLst/>
            <a:rect l="textAreaLeft" t="textAreaTop" r="textAreaRight" b="textAreaBottom"/>
            <a:pathLst>
              <a:path w="21600" h="152464">
                <a:moveTo>
                  <a:pt x="2099" y="0"/>
                </a:moveTo>
                <a:arcTo wR="2099" hR="2099" stAng="16200000" swAng="-5400000"/>
                <a:lnTo>
                  <a:pt x="0" y="150365"/>
                </a:lnTo>
                <a:arcTo wR="2099" hR="2099" stAng="10800000" swAng="-5400000"/>
                <a:lnTo>
                  <a:pt x="19501" y="152464"/>
                </a:lnTo>
                <a:arcTo wR="2099" hR="2099" stAng="5400000" swAng="-5400000"/>
                <a:lnTo>
                  <a:pt x="21600" y="2099"/>
                </a:lnTo>
                <a:arcTo wR="2099" hR="2099" stAng="0" swAng="-5400000"/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ffff"/>
                </a:solidFill>
                <a:latin typeface="Arial"/>
              </a:rPr>
              <a:t>ПРИМЕЧАНИЕ</a:t>
            </a:r>
            <a:endParaRPr b="0" lang="en-US" sz="1100" spc="-1" strike="noStrike">
              <a:solidFill>
                <a:srgbClr val="51484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Чтобы изменить изображение на этом слайде, выберите рисунок и удалите его. Затем нажмите значок "Рисунки" в заполнителе, чтобы вставить изображение.</a:t>
            </a:r>
            <a:endParaRPr b="0" lang="en-US" sz="12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4843"/>
                </a:solidFill>
                <a:latin typeface="Plantagenet Cherokee"/>
              </a:rPr>
              <a:t>Click to edit the title text format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Click to edit the outline text format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1" marL="6858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con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Thir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our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if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ix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ven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Группа 7"/>
          <p:cNvGrpSpPr/>
          <p:nvPr/>
        </p:nvGrpSpPr>
        <p:grpSpPr>
          <a:xfrm>
            <a:off x="0" y="2514600"/>
            <a:ext cx="9144000" cy="3193560"/>
            <a:chOff x="0" y="2514600"/>
            <a:chExt cx="9144000" cy="3193560"/>
          </a:xfrm>
        </p:grpSpPr>
        <p:grpSp>
          <p:nvGrpSpPr>
            <p:cNvPr id="137" name="Группа 8"/>
            <p:cNvGrpSpPr/>
            <p:nvPr/>
          </p:nvGrpSpPr>
          <p:grpSpPr>
            <a:xfrm>
              <a:off x="0" y="2514600"/>
              <a:ext cx="9144000" cy="63000"/>
              <a:chOff x="0" y="2514600"/>
              <a:chExt cx="9144000" cy="63000"/>
            </a:xfrm>
          </p:grpSpPr>
          <p:sp>
            <p:nvSpPr>
              <p:cNvPr id="138" name="Прямая соединительная линия 17"/>
              <p:cNvSpPr/>
              <p:nvPr/>
            </p:nvSpPr>
            <p:spPr>
              <a:xfrm>
                <a:off x="0" y="2577600"/>
                <a:ext cx="9144000" cy="0"/>
              </a:xfrm>
              <a:prstGeom prst="line">
                <a:avLst/>
              </a:prstGeom>
              <a:ln w="38160">
                <a:solidFill>
                  <a:srgbClr val="5148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514843"/>
                  </a:solidFill>
                  <a:latin typeface="Arial"/>
                </a:endParaRPr>
              </a:p>
            </p:txBody>
          </p:sp>
          <p:sp>
            <p:nvSpPr>
              <p:cNvPr id="139" name="Прямая соединительная линия 18"/>
              <p:cNvSpPr/>
              <p:nvPr/>
            </p:nvSpPr>
            <p:spPr>
              <a:xfrm>
                <a:off x="0" y="2514600"/>
                <a:ext cx="9144000" cy="0"/>
              </a:xfrm>
              <a:prstGeom prst="line">
                <a:avLst/>
              </a:prstGeom>
              <a:ln w="12600">
                <a:solidFill>
                  <a:srgbClr val="5148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514843"/>
                  </a:solidFill>
                  <a:latin typeface="Arial"/>
                </a:endParaRPr>
              </a:p>
            </p:txBody>
          </p:sp>
        </p:grpSp>
        <p:sp>
          <p:nvSpPr>
            <p:cNvPr id="140" name="Прямоугольник 9"/>
            <p:cNvSpPr/>
            <p:nvPr/>
          </p:nvSpPr>
          <p:spPr>
            <a:xfrm>
              <a:off x="0" y="2641320"/>
              <a:ext cx="9144000" cy="2940120"/>
            </a:xfrm>
            <a:prstGeom prst="rect">
              <a:avLst/>
            </a:prstGeom>
            <a:solidFill>
              <a:srgbClr val="5148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  <p:grpSp>
          <p:nvGrpSpPr>
            <p:cNvPr id="141" name="Группа 10"/>
            <p:cNvGrpSpPr/>
            <p:nvPr/>
          </p:nvGrpSpPr>
          <p:grpSpPr>
            <a:xfrm>
              <a:off x="0" y="5645160"/>
              <a:ext cx="9144000" cy="63000"/>
              <a:chOff x="0" y="5645160"/>
              <a:chExt cx="9144000" cy="63000"/>
            </a:xfrm>
          </p:grpSpPr>
          <p:sp>
            <p:nvSpPr>
              <p:cNvPr id="142" name="Прямая соединительная линия 15"/>
              <p:cNvSpPr/>
              <p:nvPr/>
            </p:nvSpPr>
            <p:spPr>
              <a:xfrm flipH="1">
                <a:off x="0" y="5645160"/>
                <a:ext cx="9144000" cy="0"/>
              </a:xfrm>
              <a:prstGeom prst="line">
                <a:avLst/>
              </a:prstGeom>
              <a:ln w="38160">
                <a:solidFill>
                  <a:srgbClr val="5148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514843"/>
                  </a:solidFill>
                  <a:latin typeface="Arial"/>
                </a:endParaRPr>
              </a:p>
            </p:txBody>
          </p:sp>
          <p:sp>
            <p:nvSpPr>
              <p:cNvPr id="143" name="Прямая соединительная линия 16"/>
              <p:cNvSpPr/>
              <p:nvPr/>
            </p:nvSpPr>
            <p:spPr>
              <a:xfrm flipH="1">
                <a:off x="0" y="5708160"/>
                <a:ext cx="9144000" cy="0"/>
              </a:xfrm>
              <a:prstGeom prst="line">
                <a:avLst/>
              </a:prstGeom>
              <a:ln w="12600">
                <a:solidFill>
                  <a:srgbClr val="5148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514843"/>
                  </a:solidFill>
                  <a:latin typeface="Arial"/>
                </a:endParaRPr>
              </a:p>
            </p:txBody>
          </p:sp>
        </p:grpSp>
      </p:grpSp>
      <p:pic>
        <p:nvPicPr>
          <p:cNvPr id="144" name="Рисунок 6" descr=""/>
          <p:cNvPicPr/>
          <p:nvPr/>
        </p:nvPicPr>
        <p:blipFill>
          <a:blip r:embed="rId2"/>
          <a:stretch/>
        </p:blipFill>
        <p:spPr>
          <a:xfrm>
            <a:off x="993600" y="0"/>
            <a:ext cx="1341720" cy="29750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4843"/>
                </a:solidFill>
                <a:latin typeface="Plantagenet Cherokee"/>
              </a:rPr>
              <a:t>Click to edit the title text format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Click to edit the outline text format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1" marL="6858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con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Thir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our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if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ix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ven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7"/>
          </p:nvPr>
        </p:nvSpPr>
        <p:spPr>
          <a:xfrm>
            <a:off x="82872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d8f88"/>
                </a:solidFill>
                <a:latin typeface="Euphem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8"/>
          </p:nvPr>
        </p:nvSpPr>
        <p:spPr>
          <a:xfrm>
            <a:off x="2200320" y="6356520"/>
            <a:ext cx="474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9"/>
          </p:nvPr>
        </p:nvSpPr>
        <p:spPr>
          <a:xfrm>
            <a:off x="694224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8BA8-CF62-4543-93D4-39AB299C4058}" type="slidenum">
              <a:rPr b="0" lang="ru-RU" sz="1200" spc="-1" strike="noStrike">
                <a:solidFill>
                  <a:srgbClr val="9d8f88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4843"/>
                </a:solidFill>
                <a:latin typeface="Plantagenet Cherokee"/>
              </a:rPr>
              <a:t>Click to edit the title text format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Click to edit the outline text format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1" marL="6858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con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Thir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our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if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ix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ven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82872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d8f88"/>
                </a:solidFill>
                <a:latin typeface="Euphem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2200320" y="6356520"/>
            <a:ext cx="474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694224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E433-E926-477D-9668-D73AA7305E30}" type="slidenum">
              <a:rPr b="0" lang="ru-RU" sz="1200" spc="-1" strike="noStrike">
                <a:solidFill>
                  <a:srgbClr val="9d8f88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Группа 9"/>
          <p:cNvGrpSpPr/>
          <p:nvPr/>
        </p:nvGrpSpPr>
        <p:grpSpPr>
          <a:xfrm>
            <a:off x="6966000" y="453960"/>
            <a:ext cx="63360" cy="5634000"/>
            <a:chOff x="6966000" y="453960"/>
            <a:chExt cx="63360" cy="5634000"/>
          </a:xfrm>
        </p:grpSpPr>
        <p:sp>
          <p:nvSpPr>
            <p:cNvPr id="228" name="Прямая соединительная линия 10"/>
            <p:cNvSpPr/>
            <p:nvPr/>
          </p:nvSpPr>
          <p:spPr>
            <a:xfrm flipV="1">
              <a:off x="7029360" y="453960"/>
              <a:ext cx="0" cy="5634000"/>
            </a:xfrm>
            <a:prstGeom prst="line">
              <a:avLst/>
            </a:prstGeom>
            <a:ln w="3816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  <p:sp>
          <p:nvSpPr>
            <p:cNvPr id="229" name="Прямая соединительная линия 8"/>
            <p:cNvSpPr/>
            <p:nvPr/>
          </p:nvSpPr>
          <p:spPr>
            <a:xfrm flipV="1">
              <a:off x="6966000" y="453960"/>
              <a:ext cx="0" cy="5634000"/>
            </a:xfrm>
            <a:prstGeom prst="line">
              <a:avLst/>
            </a:prstGeom>
            <a:ln w="1260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4843"/>
                </a:solidFill>
                <a:latin typeface="Plantagenet Cherokee"/>
              </a:rPr>
              <a:t>Click to edit the title text format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Click to edit the outline text format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1" marL="6858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con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Thir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our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if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ix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ven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82872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d8f88"/>
                </a:solidFill>
                <a:latin typeface="Euphem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2200320" y="6356520"/>
            <a:ext cx="474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694224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EB87-BB54-4D83-BD3E-3E6D4D0C6E01}" type="slidenum">
              <a:rPr b="0" lang="ru-RU" sz="1200" spc="-1" strike="noStrike">
                <a:solidFill>
                  <a:srgbClr val="9d8f88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28720" y="2292480"/>
            <a:ext cx="7572240" cy="22190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14843"/>
                </a:solidFill>
                <a:latin typeface="Plantagenet Cherokee"/>
              </a:rPr>
              <a:t>ПРОЕКТ «ОДАРЕННЫЙ УЧИТЕЛЬ = ОДАРЕННЫЙ РЕБЁНОК» </a:t>
            </a:r>
            <a:endParaRPr b="0" lang="en-US" sz="44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28720" y="4511160"/>
            <a:ext cx="75722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14843"/>
                </a:solidFill>
                <a:latin typeface="Euphemia"/>
              </a:rPr>
              <a:t>в Ульчском муниципальном районе</a:t>
            </a:r>
            <a:endParaRPr b="0" lang="en-US" sz="18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Содержимое 6" descr=""/>
          <p:cNvPicPr/>
          <p:nvPr/>
        </p:nvPicPr>
        <p:blipFill>
          <a:blip r:embed="rId1"/>
          <a:stretch/>
        </p:blipFill>
        <p:spPr>
          <a:xfrm>
            <a:off x="176040" y="0"/>
            <a:ext cx="8571240" cy="6595920"/>
          </a:xfrm>
          <a:prstGeom prst="rect">
            <a:avLst/>
          </a:prstGeom>
          <a:ln w="0">
            <a:noFill/>
          </a:ln>
        </p:spPr>
      </p:pic>
      <p:pic>
        <p:nvPicPr>
          <p:cNvPr id="274" name="Прямоугольник 13" descr=""/>
          <p:cNvPicPr/>
          <p:nvPr/>
        </p:nvPicPr>
        <p:blipFill>
          <a:blip r:embed="rId2"/>
          <a:stretch/>
        </p:blipFill>
        <p:spPr>
          <a:xfrm>
            <a:off x="615960" y="122400"/>
            <a:ext cx="820404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71640" y="2988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4843"/>
                </a:solidFill>
                <a:latin typeface="Plantagenet Cherokee"/>
              </a:rPr>
              <a:t>Пояснительная записка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39280" y="1341360"/>
            <a:ext cx="82090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8000"/>
          </a:bodyPr>
          <a:p>
            <a:pPr marL="223920" indent="-223920"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14843"/>
                </a:solidFill>
                <a:latin typeface="Euphemia"/>
              </a:rPr>
              <a:t>В муниципальном районе уделяется пристальное внимание работе с одарёнными детьми, накоплен определенный опыт организации мероприятий, направленных на выявление талантливых детей, социальной поддержки школьников, имеющих особые достижения в различных видах деятельности.</a:t>
            </a:r>
            <a:endParaRPr b="0" lang="en-US" sz="1600" spc="-1" strike="noStrike">
              <a:solidFill>
                <a:srgbClr val="514843"/>
              </a:solidFill>
              <a:latin typeface="Euphemia"/>
            </a:endParaRPr>
          </a:p>
          <a:p>
            <a:pPr marL="223920" indent="-223920"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14843"/>
                </a:solidFill>
                <a:latin typeface="Euphemia"/>
              </a:rPr>
              <a:t>Выявление одарённых детей начинается в ОО муниципального района с первой ступени обучения, где ведется работа по выявлению увлечений и способностей детей на основе наблюдения, изучения психологических особенностей, речи, памяти, логического мышления. </a:t>
            </a:r>
            <a:endParaRPr b="0" lang="en-US" sz="1600" spc="-1" strike="noStrike">
              <a:solidFill>
                <a:srgbClr val="514843"/>
              </a:solidFill>
              <a:latin typeface="Euphemia"/>
            </a:endParaRPr>
          </a:p>
          <a:p>
            <a:pPr marL="223920" indent="-223920"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14843"/>
                </a:solidFill>
                <a:latin typeface="Euphemia"/>
              </a:rPr>
              <a:t>В 8 школах муниципального района созданы научные общества учащихся, деятельность которых осуществляется по следующим направлениям: химико-биологическое, эколого-биологическое, физико-математическое, краеведческое, историко-литературное, лингвистическое, общественно-гуманитарное и другие.</a:t>
            </a:r>
            <a:endParaRPr b="0" lang="en-US" sz="1600" spc="-1" strike="noStrike">
              <a:solidFill>
                <a:srgbClr val="514843"/>
              </a:solidFill>
              <a:latin typeface="Euphemia"/>
            </a:endParaRPr>
          </a:p>
          <a:p>
            <a:pPr marL="223920" indent="-223920"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14843"/>
                </a:solidFill>
                <a:latin typeface="Euphemia"/>
              </a:rPr>
              <a:t>Ежегодно в муниципальном районе проводится школьный этап ( для учащихся 4-11 классов) и муниципальный этап Всероссийской олимпиады школьников среди учащихся 7-11 классов по 19 предметам. Победители и призеры муниципального этапа принимают участие в региональном этапе (2016/2017  учебный год – 11 участников, из которых 1 учащаяся стала призером олимпиады по ОБЖ, 2017/2018 учебный год – 29 участников).</a:t>
            </a:r>
            <a:endParaRPr b="0" lang="en-US" sz="1600" spc="-1" strike="noStrike">
              <a:solidFill>
                <a:srgbClr val="514843"/>
              </a:solidFill>
              <a:latin typeface="Euphemia"/>
            </a:endParaRPr>
          </a:p>
          <a:p>
            <a:pPr marL="223920" indent="-223920"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14843"/>
                </a:solidFill>
                <a:latin typeface="Euphemia"/>
              </a:rPr>
              <a:t>В учреждениях общего образования педагоги организуют занятия, направленные на развитие познавательных интересов учащихся в выбранной ими области, освоение учебного материала, не предусмотренного образовательными стандартами, через кружки, факультативы, элективные курсы.</a:t>
            </a:r>
            <a:endParaRPr b="0" lang="en-US" sz="1600" spc="-1" strike="noStrike">
              <a:solidFill>
                <a:srgbClr val="514843"/>
              </a:solidFill>
              <a:latin typeface="Euphemia"/>
            </a:endParaRPr>
          </a:p>
          <a:p>
            <a:pPr marL="223920" indent="-223920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14843"/>
              </a:solidFill>
              <a:latin typeface="Euphemia"/>
            </a:endParaRPr>
          </a:p>
          <a:p>
            <a:pPr marL="223920" indent="-223920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26560" y="1413000"/>
            <a:ext cx="748692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14843"/>
                </a:solidFill>
                <a:latin typeface="Euphemia"/>
              </a:rPr>
              <a:t>Вместе с тем, практика последних лет работы с одарёнными детьми в муниципальном районе показывает, что существуют проблемы и нереализованные возможности в организации работы с одарёнными детьми:</a:t>
            </a: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14843"/>
                </a:solidFill>
                <a:latin typeface="Euphemia"/>
              </a:rPr>
              <a:t>- не создана в полном объёме учебно-материальная база для организации работы с одаренными детьми;</a:t>
            </a: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14843"/>
                </a:solidFill>
                <a:latin typeface="Euphemia"/>
              </a:rPr>
              <a:t>- организация работы с детьми, мотивированными на успех, в ОО носит локальный характер;</a:t>
            </a: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14843"/>
                </a:solidFill>
                <a:latin typeface="Euphemia"/>
              </a:rPr>
              <a:t>- отсутствие высоких достижений учащихся в олимпиадном движении регионального, всероссийского уровней;</a:t>
            </a: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14843"/>
                </a:solidFill>
                <a:latin typeface="Euphemia"/>
              </a:rPr>
              <a:t>- педагогические работники ОО не всегда готовы осуществлять психолого-педагогическую поддержку одаренных детей. </a:t>
            </a: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14843"/>
                </a:solidFill>
                <a:latin typeface="Euphemia"/>
              </a:rPr>
              <a:t>работа с одаренными детьми требует особой профессиональной подготовки педагогов, внедрения современного программного обеспечения.</a:t>
            </a: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14843"/>
                </a:solidFill>
                <a:latin typeface="Euphemia"/>
              </a:rPr>
              <a:t>Таким образом, проект «Одаренный ребенок = одаренный учитель» направлен на преодоление обозначенных проблем.  </a:t>
            </a: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4843"/>
                </a:solidFill>
                <a:latin typeface="Plantagenet Cherokee"/>
              </a:rPr>
              <a:t>Паспорт проекта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826920" y="1483920"/>
            <a:ext cx="7848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14843"/>
                </a:solidFill>
                <a:latin typeface="Euphemia"/>
              </a:rPr>
              <a:t>Наименование проекта </a:t>
            </a:r>
            <a:r>
              <a:rPr b="0" lang="ru-RU" sz="2400" spc="-1" strike="noStrike">
                <a:solidFill>
                  <a:srgbClr val="514843"/>
                </a:solidFill>
                <a:latin typeface="Euphemia"/>
              </a:rPr>
              <a:t>– «Одаренный ребёнок = одаренный учитель»</a:t>
            </a:r>
            <a:endParaRPr b="0" lang="en-US" sz="2400" spc="-1" strike="noStrike">
              <a:solidFill>
                <a:srgbClr val="514843"/>
              </a:solidFill>
              <a:latin typeface="Euphemia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14843"/>
                </a:solidFill>
                <a:latin typeface="Euphemia"/>
              </a:rPr>
              <a:t>Куратор проекта </a:t>
            </a:r>
            <a:r>
              <a:rPr b="0" lang="ru-RU" sz="2400" spc="-1" strike="noStrike">
                <a:solidFill>
                  <a:srgbClr val="514843"/>
                </a:solidFill>
                <a:latin typeface="Euphemia"/>
              </a:rPr>
              <a:t>– Дяксул Л.В. </a:t>
            </a:r>
            <a:endParaRPr b="0" lang="en-US" sz="2400" spc="-1" strike="noStrike">
              <a:solidFill>
                <a:srgbClr val="514843"/>
              </a:solidFill>
              <a:latin typeface="Euphemia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14843"/>
                </a:solidFill>
                <a:latin typeface="Euphemia"/>
              </a:rPr>
              <a:t>Операторы проекта: </a:t>
            </a:r>
            <a:r>
              <a:rPr b="0" lang="ru-RU" sz="2400" spc="-1" strike="noStrike">
                <a:solidFill>
                  <a:srgbClr val="514843"/>
                </a:solidFill>
                <a:latin typeface="Euphemia"/>
              </a:rPr>
              <a:t>МКУ «Районный методический кабинет» Ульчского муниципального района Хабаровского края</a:t>
            </a:r>
            <a:endParaRPr b="0" lang="en-US" sz="2400" spc="-1" strike="noStrike">
              <a:solidFill>
                <a:srgbClr val="514843"/>
              </a:solidFill>
              <a:latin typeface="Euphemia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14843"/>
                </a:solidFill>
                <a:latin typeface="Euphemia"/>
              </a:rPr>
              <a:t>Цель проекта:</a:t>
            </a:r>
            <a:r>
              <a:rPr b="0" lang="ru-RU" sz="2400" spc="-1" strike="noStrike">
                <a:solidFill>
                  <a:srgbClr val="514843"/>
                </a:solidFill>
                <a:latin typeface="Euphemia"/>
              </a:rPr>
              <a:t> создание современной образовательной среды для выявления и сопровождения одаренных детей.</a:t>
            </a:r>
            <a:endParaRPr b="0" lang="en-US" sz="24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4843"/>
                </a:solidFill>
                <a:latin typeface="Plantagenet Cherokee"/>
              </a:rPr>
              <a:t>Задачи проекта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pic>
        <p:nvPicPr>
          <p:cNvPr id="281" name="Содержимое 3" descr=""/>
          <p:cNvPicPr/>
          <p:nvPr/>
        </p:nvPicPr>
        <p:blipFill>
          <a:blip r:embed="rId1"/>
          <a:stretch/>
        </p:blipFill>
        <p:spPr>
          <a:xfrm>
            <a:off x="-974880" y="1487520"/>
            <a:ext cx="8137800" cy="5108400"/>
          </a:xfrm>
          <a:prstGeom prst="rect">
            <a:avLst/>
          </a:prstGeom>
          <a:ln w="0">
            <a:noFill/>
          </a:ln>
        </p:spPr>
      </p:pic>
      <p:pic>
        <p:nvPicPr>
          <p:cNvPr id="282" name="Схема 4" descr=""/>
          <p:cNvPicPr/>
          <p:nvPr/>
        </p:nvPicPr>
        <p:blipFill>
          <a:blip r:embed="rId2"/>
          <a:stretch/>
        </p:blipFill>
        <p:spPr>
          <a:xfrm>
            <a:off x="5437080" y="1316160"/>
            <a:ext cx="3382920" cy="4798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4843"/>
                </a:solidFill>
                <a:latin typeface="Plantagenet Cherokee"/>
              </a:rPr>
              <a:t>Партнеры проекта 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pic>
        <p:nvPicPr>
          <p:cNvPr id="284" name="Объект 3" descr=""/>
          <p:cNvPicPr/>
          <p:nvPr/>
        </p:nvPicPr>
        <p:blipFill>
          <a:blip r:embed="rId1"/>
          <a:stretch/>
        </p:blipFill>
        <p:spPr>
          <a:xfrm>
            <a:off x="828720" y="1603440"/>
            <a:ext cx="748656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4843"/>
                </a:solidFill>
                <a:latin typeface="Plantagenet Cherokee"/>
              </a:rPr>
              <a:t>Риски проекта 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900000" y="1700280"/>
          <a:ext cx="7417080" cy="4206960"/>
        </p:xfrm>
        <a:graphic>
          <a:graphicData uri="http://schemas.openxmlformats.org/drawingml/2006/table">
            <a:tbl>
              <a:tblPr/>
              <a:tblGrid>
                <a:gridCol w="3961080"/>
                <a:gridCol w="34560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Euphemia"/>
                        </a:rPr>
                        <a:t>Риски 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484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Euphemia"/>
                        </a:rPr>
                        <a:t>Способы устранения 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4843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4843"/>
                          </a:solidFill>
                          <a:latin typeface="Euphemia"/>
                        </a:rPr>
                        <a:t>Незаинтересованность участников образовательного процесса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c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4843"/>
                          </a:solidFill>
                          <a:latin typeface="Euphemia"/>
                        </a:rPr>
                        <a:t>создание системы поощрения как учащихся, так и педагогов 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cfcf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4843"/>
                          </a:solidFill>
                          <a:latin typeface="Euphemia"/>
                        </a:rPr>
                        <a:t>Дефицит высококвалифицированных высокомотивированных педагогических кадров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4843"/>
                          </a:solidFill>
                          <a:latin typeface="Euphemia"/>
                        </a:rPr>
                        <a:t>организация повышения квалификации педагогов, привлечение молодых специалистов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4843"/>
                          </a:solidFill>
                          <a:latin typeface="Euphemia"/>
                        </a:rPr>
                        <a:t>Слабая материально-техническая база, недостаточное финансирование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c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4843"/>
                          </a:solidFill>
                          <a:latin typeface="Euphemia"/>
                        </a:rPr>
                        <a:t>финансовое планирование, привлечение дополнительных финансовых средств (спонсорская помощь)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cfc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4843"/>
                </a:solidFill>
                <a:latin typeface="Plantagenet Cherokee"/>
              </a:rPr>
              <a:t>Ожидаемые результаты 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pic>
        <p:nvPicPr>
          <p:cNvPr id="288" name="Объект 4" descr=""/>
          <p:cNvPicPr/>
          <p:nvPr/>
        </p:nvPicPr>
        <p:blipFill>
          <a:blip r:embed="rId1"/>
          <a:stretch/>
        </p:blipFill>
        <p:spPr>
          <a:xfrm>
            <a:off x="804960" y="1603440"/>
            <a:ext cx="755316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9T10:01:16Z</dcterms:created>
  <dc:creator>Юрок</dc:creator>
  <dc:description/>
  <dc:language>en-US</dc:language>
  <cp:lastModifiedBy>Альбина Александровна Базгутдинова</cp:lastModifiedBy>
  <dcterms:modified xsi:type="dcterms:W3CDTF">2018-06-14T04:57:36Z</dcterms:modified>
  <cp:revision>50</cp:revision>
  <dc:subject/>
  <dc:title>Слайд 1</dc:title>
</cp:coreProperties>
</file>